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C3F5-FE0E-40E3-A052-84832D29FADD}"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9142-F786-4871-8677-7B4F61DE1EA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2C15-3F3B-4FB3-A5DA-FE0FFF63642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5F38-0A85-496C-8950-73350644421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71CC-16EA-4271-81E1-79E91065180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218E-280B-4A4A-B431-74FD5662FDC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478C-99AB-43D7-A023-04C866F070E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FA3D-E463-4D5D-B5AA-810530353D1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99FB-652F-4865-AC8C-AABAEEE72B0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00CF-7C8D-48F4-9D60-C494A5DB7C0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0F23-B0A8-484B-9F75-61ED6C7DC16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63E9-C56E-4D62-BEEB-4F94DD86AAB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583B-D26B-470D-A99C-8AA436A82FA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7226-E52F-46A4-821B-88B4BDE46EA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5D73-4AE3-46E7-9F06-FAE0AB505DD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6E86-C43B-458B-A6B8-1094C9D7CAB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DAC4-4171-4336-93D2-023B5A98538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ADA1-72F2-4900-A0A5-4027FF0AE1D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2348-8B49-419F-816E-0E563A474D1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E044-6FBB-4913-A2CB-01ECE0CE3C6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76BD-EE77-49E3-B632-093E218CBEC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70D2-C833-495B-B023-F5E839A376B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78DF-6B07-423F-A6D8-2CFF32F2B7A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3A0E-7136-4BFB-9350-B4D1D03EF88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6A00-8082-4DB6-BE4B-CCA64A331B5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6407-842C-4B39-8BC2-E8CC2EDB847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E373-C8C1-46F0-A18C-77624F1B388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EBAF-0C39-4CD2-9877-C5B5B7F7E3F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0A85-E2C7-446B-B57C-D5C1205688D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FE24-29AA-4B9D-B16E-877E51B9D8E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A470-1435-4EF3-AD7E-ED5EAF8CDDD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F36F-01E9-40C6-930A-D38A563752A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4D08-BEB1-4594-88F0-E69B5690EDE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171F-EFC6-4325-83E6-45410F84A28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5A3D-9B95-4D7D-99BB-83BC0E5ED02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2DBD-52D2-4F0A-84C6-EE92904F1F9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5B11-C2B9-4EFE-AB9C-6C033345BC6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6E58-2228-4222-BFBF-CCE9DE80B44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F145-9FC0-4F7F-BE1B-EB7E13D0957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552D-8BF7-4481-B968-1EB328F249F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7867-79A9-426B-883E-22B8A78EDED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CA2B-E658-480D-9284-7A5DDF44072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246F-5CEF-4D32-ADD3-945C726E067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76CF-70CE-4F82-95E1-90ED3DB8F9F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E79D-D003-4D9A-89FA-C082489A4AA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D241-9265-4706-9F91-1C301D77EB1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EF8D-BFEA-44E8-95A0-495D4974B3B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EC92-7195-4DFE-B89A-247D61099E4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EEDE-2CB5-4CEC-B79A-AF543B065BA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71EF-D601-43E4-9DC1-6E97CBFE45B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752B-8A37-47C3-A0DD-B8F88171076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E030-588D-4A4C-A119-CCF7C395D53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F564-2880-4890-A769-2F92434528D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2276-D5D0-4213-8C13-E1103FDD259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E54A-0ACC-473E-A9E6-644496F2326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438E-12AB-44C7-A692-576580DB696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A0D2-9506-4BCD-84AF-2757C454CAB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279F-AFEC-42C6-9F14-F86C3739DB6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18C4-8A68-4154-A3A8-ADB845B7DB5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F035-0239-4292-BD01-7B1376B58AB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89639-6571-4997-B3A2-04549B9FE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F529-4882-4BA5-946A-4CE067CB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C1684-5342-4241-91EC-376749CC2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DA08F-8419-4676-AE71-7C1490885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6E26C-F231-40E7-9E60-E6A13418D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1278D-1D75-409F-A2A4-67524B01C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2E287-5E99-4F87-8582-505EA6380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45E64-A2C1-4CAF-B015-89FB2AAE8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9A843-914E-4F44-8FD4-BF6021C99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466B7-DFEB-4576-9B35-6850A9483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315E0-5EC2-447A-9ECE-B01BCA4E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C021-E336-4EF6-B18A-794BA125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40A05-B29D-4F10-96EA-65ABB9407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B8CDD-E5DC-456D-AE2B-DF8DF8917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318D2-94E6-4A94-B61E-70B280250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D99F5-CFAC-48F2-9ACA-4AE7F9E2E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DC76A-582F-45BA-B738-5A40E11C7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49FF-EF4D-46A1-8CD3-5904770A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F3AC-575D-4B56-943D-5066CE751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DFE0-09A5-4E30-BCA7-86C7516EF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1C14-8758-48D3-B8C4-646CFCBAB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353E-50F9-4BB2-91B6-78164743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10D0-0F6E-4677-93E1-3E10A9F35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9B87-9126-4377-86C1-B46A7AE06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5FC8-F0FD-44B6-9A8D-B6DEB471890A}"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1E9B-2119-4A08-81BC-C90713461468}"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nodeType="afterEffect"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nodeType="afterEffect"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nodeType="afterEffect"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nodeType="afterEffect"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nodeType="afterEffect"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nodeType="afterEffect"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nodeType="afterEffect"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nodeType="afterEffect"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nodeType="clickEffect" fill="hold">
                      <p:stCondLst>
                        <p:cond delay="0"/>
                      </p:stCondLst>
                      <p:childTnLst>
                        <p:par>
                          <p:cTn id="501" nodeType="withEffect"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nodeType="afterEffect"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nodeType="afterEffect"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nodeType="afterEffect"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nodeType="afterEffect"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nodeType="clickEffect" fill="hold">
                      <p:stCondLst>
                        <p:cond delay="0"/>
                      </p:stCondLst>
                      <p:childTnLst>
                        <p:par>
                          <p:cTn id="756" nodeType="withEffect"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nodeType="afterEffect"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nodeType="afterEffect"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nodeType="clickEffect" fill="hold">
                      <p:stCondLst>
                        <p:cond delay="0"/>
                      </p:stCondLst>
                      <p:childTnLst>
                        <p:par>
                          <p:cTn id="829" nodeType="withEffect"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nodeType="afterEffect"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nodeType="afterEffect"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nodeType="clickEffect" fill="hold">
                      <p:stCondLst>
                        <p:cond delay="0"/>
                      </p:stCondLst>
                      <p:childTnLst>
                        <p:par>
                          <p:cTn id="849" nodeType="withEffect"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nodeType="afterEffect"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nodeType="clickEffect" fill="hold">
                      <p:stCondLst>
                        <p:cond delay="0"/>
                      </p:stCondLst>
                      <p:childTnLst>
                        <p:par>
                          <p:cTn id="860" nodeType="withEffect"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nodeType="afterEffect"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nodeType="afterEffect"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nodeType="clickEffect" fill="hold">
                      <p:stCondLst>
                        <p:cond delay="0"/>
                      </p:stCondLst>
                      <p:childTnLst>
                        <p:par>
                          <p:cTn id="963" nodeType="withEffect"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nodeType="clickEffect" fill="hold">
                      <p:stCondLst>
                        <p:cond delay="0"/>
                      </p:stCondLst>
                      <p:childTnLst>
                        <p:par>
                          <p:cTn id="993" nodeType="withEffect"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nodeType="afterEffect"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nodeType="afterEffect"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nodeType="afterEffect"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nodeType="afterEffect"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dc:language>en-US</dc:language>
  <cp:lastModifiedBy>Negrea Carmen</cp:lastModifiedBy>
  <dcterms:modified xsi:type="dcterms:W3CDTF">2013-01-14T07:57:39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